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822-C035-43D5-82D8-8CE5D5C9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B05-A845-4FC6-AB8E-13BB17C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E05-9F9C-43A7-A66D-45EA72A7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609D-AEAF-4D44-8385-8D64CA68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4A1-1CA7-4D74-A5E2-01AEC62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27E-7375-48DE-B433-58A0820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9900-ACA0-4B50-AD3B-9590702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A35-61D7-4EFB-AF81-5F16D3D9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E03-82B1-4633-97A6-F2089C33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AB2-4776-4260-B98E-964DD5A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C41-BDBE-40B7-9417-6730B3FE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336-369B-42A6-8F3E-25386590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C81-2C5A-4C10-A55F-BD69CD0DD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76520"/>
            <a:ext cx="838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Linear Functions from Data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71600" y="1066680"/>
            <a:ext cx="7313760" cy="3200400"/>
            <a:chOff x="1371600" y="1066680"/>
            <a:chExt cx="7313760" cy="3200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73137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1403640" y="1112400"/>
              <a:ext cx="7238520" cy="3124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4340160"/>
            <a:ext cx="2819520" cy="2517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1523880"/>
            <a:ext cx="12193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057400"/>
            <a:ext cx="3733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057400"/>
            <a:ext cx="23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3718080"/>
            <a:ext cx="35053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3718080"/>
            <a:ext cx="21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4:15:44Z</dcterms:modified>
  <cp:revision>4</cp:revision>
  <dc:subject/>
  <dc:title>Slide 1</dc:title>
</cp:coreProperties>
</file>